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0F51-CA6E-4EC7-ABC7-020E93AA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0334-7BF7-4D67-9FB4-F7AB851D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16DF2-1EF7-465B-9A3C-0F9A02D9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D56AD-F70E-4853-910E-0B5E0AC6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0B7B6-5B46-40D2-94B6-8CF386FE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D95B5-56A6-4AE3-9816-9DC63626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704C8-F8B5-47C5-838F-7E6E872D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68666-7FD3-4463-A582-C761223D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57D61-0016-43B0-A545-1B577A28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A6A4C-52FA-45EE-898D-74DEE278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D9BC9-FAFF-4DC3-893D-AEAAFF2A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ADFC0-1905-47AB-B34A-26961B05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A5C1-A24E-4C69-B157-8A597B8C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9EDD4-CE59-41B9-A99E-9B9487B9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846A5-3395-45B5-A63A-32D3FC35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7D8AB-99EB-42B5-A7B6-D2A57673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E0807-2D3A-4186-906F-F14C22BC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4DE1C-6C06-4D1F-B6B2-00552837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EF140-515E-4A4A-9FC6-17D7AB28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FB1B6-3CD8-420D-8A28-1DA03F33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C3D48-EABD-4CDA-9D6F-64FEB127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1D2CD-F92A-486B-A807-0292E6DA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D4B0A-91C1-4F1F-8B58-D11DF7C9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955-3276-45F2-A054-A7033C6C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402D2-060E-46B4-9ACA-35C57507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1153E-BFA2-4C2E-BD6D-2BA87D4F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F2C8E-7919-40DA-A0A1-FFD9F4F7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8EF1E-CA64-44C7-9881-3667CFEA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6E91D-5E62-48D7-86C3-E1DF30A0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B731A-619B-408B-91F8-6915958D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9AF91-00FF-4B17-B8E1-5FD36079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C6D01-1E63-4FA7-830B-C8C742D6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F265B-D663-4947-BFD8-E31569B8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15A5D-99A5-418D-8B40-5F1126E3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2A70-42A5-4E58-B9EE-0F65EDC5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B63DF-BC0A-485D-BCEA-BCDA98C0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4F8B8-9216-4079-9084-772DBDCA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D0163-FA6B-4F2E-A1F1-89E109EB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6A660-6559-48EE-A9E3-909DC50A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B5067-BC16-4CF7-9B9A-CE0065B4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AA990-17DB-49D5-9385-506D54B4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E8A5A-7B43-455C-BCA3-3903A2A6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51A3D-7795-4A14-93CC-C83F3D7A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D2099-8CD0-461B-A429-78494433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55B35-2E24-47A6-BF4A-38413714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1AC3-5B4F-4C7D-8E48-2E2588C3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7DF91-9C74-49F2-B136-F943F02F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4C7BC-52F2-4C12-8D62-37C76F4B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E847B-620B-43F8-910F-1199209F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7F460-9F77-476B-B47F-FA4F2CED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8F12E-7621-4793-A5FE-E7E86B46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38F05D-CDC3-4ED4-B61F-BF586B70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ACC6D-3DDE-4692-A9DE-21169D34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4E583F-99DF-4F8B-9840-61A60607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79C54-6E7A-441A-A7AA-DCFE131D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ED80F1-65E6-4D79-8562-165D6717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F993-5F06-4C9E-B276-BA41AB96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41440A-03F4-4A20-861E-212C55B3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46D22-0442-4C8C-9259-EE88D58E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834041-E4C7-4F65-AC50-881B2A90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CCA89-2F06-4920-8739-5E5F4056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16538-24A0-4375-A7C3-6F5A70AC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7C36F-DA9C-4BCF-98F2-C233A9AC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C5B9E-EAA6-40C5-99A1-45F2DC77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2BDFE9-65D0-40C8-A110-807B8FA0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29C6F4-4289-477D-82BE-A112B195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C779C6-8727-4AC6-A3D3-B2005E32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1E2C-FB3B-4C08-99C1-492D540B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E586B-455E-40A2-85DA-B36E7B11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D0CE89-9E51-42CA-A076-0DF42106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A37F93-2939-49DE-8E71-1B7E1A8F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89C75-4037-4BBF-9726-CAD93FA0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6310B6-0DD9-45DD-8D6A-5FA13900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2C3C97-28CA-4E43-B1A3-22069614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9EE0FD-1D15-41AB-8C36-BB2FCD18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EC35E-8552-49ED-833E-D4A94309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9976CB-8D8E-4643-82F3-2270B69C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16B14C-02C4-44A3-B5EF-AA29112B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9D9C-D9D1-4CDF-AE72-A9A23888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B4FFF7-1E0F-4887-902A-E4DDCE98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2D784-0D04-418F-B55F-04C7A16A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D80E73-CB70-49DB-B42A-F8B35FE1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7ADDE3-1773-475B-BC49-775F8BF4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080E6-8ABB-4514-918E-1EF5C913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00377A-A2D6-4106-96E8-33764316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A114B8-653C-4C9A-99C6-06FD626C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97A2E2-5620-41FB-B178-A853EC72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B5DB5B-CD06-4BB7-A794-F9DCF62C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F496F0-EDF4-4132-9C63-DF581B75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5EDE-B0AB-46A2-B16C-5E3A8EA2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2A76C2-E474-42D9-81E6-93E76081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4E3AB1-0B0A-4AF3-8483-841D473E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A72207-18E6-413D-9F3A-38845A16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67F737-F522-45E7-9D4C-8703A958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3C544B-F264-4B0B-83C3-DB3ACD65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609399-07C2-410A-B523-9EE9CC3C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6E9D45-95C6-47DD-AFE9-3DABE0A9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9FA59C-13E4-475B-A0A7-CFC14B92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C98CEA-4AFC-416C-92E4-68A15582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C8514D-B6B6-45D4-8332-699D066E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D247-D0AD-4447-BCD1-6A003D72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8086F0-0A3E-40F3-B1F9-46748EEB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48C00F-C575-4117-A379-57EE9A5C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37EE1E-DF10-40DD-AF41-1361ADF8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A549BE-5A9F-4758-88CD-040E8FB0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537E79-BA1F-4232-BCA8-EBA16199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9F3062-2AB4-4341-9E92-5240C238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EF50E8-736D-4205-9E38-B59EFAC2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5EB112-9862-456E-A425-3C29FBDD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FC462D-C658-4AA8-AB48-9F49127A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6ED471-C3F8-4700-9468-52F62EBC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27F9-E4DF-40D9-8D54-E81C5695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8AD2-ABF9-4964-B5C4-C1EBB6F5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55B6E8-1DF9-4622-B584-786A6B88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5D4EE3-68A6-467B-9E33-770F71C6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14752B-3746-4D9F-BA5B-15066C8E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801245-794D-44DF-B44D-C4B7D570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F093F8-BD8C-4C7D-8F99-048BFCD7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72AB8A-8EA5-4218-A36D-1D03E494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7F2233-EA1A-4351-ADD0-AF0999F1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878134-342A-4AC1-A6BF-27371585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40B0B0-486A-42E4-AB0A-255A6474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5CB243-81C7-4D2D-8B33-782884C3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B516-9CCF-4EA2-BB28-2A36127F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8F820A-905A-4864-9C9C-BCFA1107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242D86-A35C-488C-97C3-75D84BC8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CC6CD8-876D-4616-8F40-68481AD8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B8096E-7FE1-43D3-A014-EE046770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A5D33A-9153-4283-8FAC-ADE97815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6F1105-5394-4736-AB5E-CD99D1F3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AC6DCA-1437-4ABB-9946-B867A47D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1B6C06-BB40-4ED4-841B-EA0D9D41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A47F33-19D0-4A89-A85D-71219E61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3AE0A7-8766-4AA0-9EFD-CC5364F0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6758-CE7D-453F-AB1A-E2682BBC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D873FA-B042-4E35-A26B-BBC93AC7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18EC67-1B5D-4DB2-AC57-BA12B8C4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0B7C51-4765-4396-8736-907F6F49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5783D5-CF91-4AF4-A0C0-790F1C72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7D03EB-F408-46EB-B5C5-98697F50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EB633D-0742-4D36-8555-9671CFE3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0134ED-1E38-481E-B5AA-99884D11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6F5629-7155-44EA-BDF4-196F980D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F10014-AE9E-411B-B196-A9216886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98968C-C44E-49BF-AA16-339CE455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C53B-737B-4DA2-97B2-1B55401D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F1D5D7-4C25-4DEA-8F0B-45986E7B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B6A76E-D921-4424-9C7B-E6CBB459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5C6B58-C3A5-4F43-BF14-40A3E53D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213121-419D-4278-9471-FC32BD6D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A1E545-BEFE-4181-8678-B42AEFCD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7F62F7-2CD3-4993-97F9-165B31E4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13EB79-F452-406E-9C73-F95CDCCE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F7F2EB-2B23-443C-A0AF-6A2C3D54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77851D-C713-4E91-BC1F-1BFA18D7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590DB6-BC03-4DA5-AA70-D9689A81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ADAD-21D6-4453-A3ED-8FE1C3F2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165966-DB14-46C3-8520-C2A6513B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3AE707-CC90-4143-81AE-3C1EC273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05A282-6702-48A2-A2BE-5632C711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D00EA3-13B7-472B-9A6F-611B5CC8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D9B6DE-47AB-44C5-97D5-ECFA1D26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A584A1-02E1-46AE-A6C1-9221AE7E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11A0DB-0338-4551-86AB-1F0DA41C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1357A4-D830-4027-BA7D-D2B6138D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7BCDF9-7CAE-4306-8158-4414DEE6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B34266-42C4-488A-999C-01D9174A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66218-3B94-434B-BFD3-6F1FFF10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68CD54-5F38-4C25-88FB-8E783A13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A7E2EF-EA97-4406-8B6D-14166519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8215F5-7A39-4265-9022-B5275316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E9226-713F-42E5-8494-120AB8E0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66EFB-3688-4BD8-814D-DEC61B24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61B99-164B-409D-B1AA-5D8BA519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53B36-D820-43B0-ACA3-35922E21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041-25F6-4C1D-BC02-CD6B8EB3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87974-42FF-4109-A0CC-A1E128B8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BF74C-C414-44E7-9A54-53E787AD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1B48B-69F0-4F6C-A64D-BF7CE7C8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DFBC3-D31D-4818-9D2A-02586677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C287C-B9B3-4926-BCD8-820C5BF0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AAFC3-EA58-496F-AC08-6CF5F838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E58E8-51D4-4B5E-932D-56A717B6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D67E4-C458-4433-8813-E0A36892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50A68-3919-4D10-9847-3C6F7982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68DD1-A3F2-4612-9444-ADD000A5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B0D0-4E9B-43DB-9603-70A4A808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A8A80-2992-4862-9680-32DFDFE4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BC095-7499-4D14-AD27-021635B3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B9ED2-2BFA-4EF9-9ED9-E10435E9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54457-83CC-4130-A6F4-0FB4C6DE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4BCFD-DFA1-4113-9064-7425F37F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72559-339D-48E7-8CED-7BF70CBA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E8F58-F1A2-425D-9FB1-39E67C1C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787A7-B2BC-42ED-BC67-2184C756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D2725-8EAD-4BA0-9E17-765A6F21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EF06A-F80C-4C2C-958A-C20231C2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0C95-A943-431F-A6C6-84BCBC15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F2291-FFA4-493D-B6C2-33F100C6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C3D49-1DE6-4D7D-BAFE-F5C9E257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03DAD-2F81-411C-A316-053152AA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E3E38-282D-4D63-9448-9ECB5684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978F7-0F9C-400C-B93B-6491B80A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00613-545D-4FAE-8F19-4E121237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0068A-930C-42D4-8D9C-9E8AF822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9B7D6-8DBC-48B9-B8D1-9FD9ABF7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7E233-7333-4CC3-97AA-6E4E2BA0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7F872-EE21-45C2-A206-68049EA3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C828-B485-4201-A4CE-DF5524A1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370B6-575A-40B5-9C6A-0E786CFC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1F445-91CE-4CC7-B9C2-FA801F71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E45A3-7C15-4136-BE61-6B4A7725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DCDF8-7A6C-428A-8305-915CC35E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A17AE-01F0-48B4-9E92-A1577DEA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21816-320D-4ECE-93BD-80B61D17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F5F28-48F8-49AC-880D-36FA4B8E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D938A-B46E-4071-9243-C75C837D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F8B2E-4955-4506-A03C-716AC8A8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7A8E0-ED20-4249-B158-127EE7CB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BB87-71A2-4262-AAE5-41C00CEB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C1E8B-689B-45DB-810A-86040758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66948-3FA6-48FB-97DB-06BC7394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B1A41-25B4-4787-AE5E-93C68724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1A9A3-E934-4380-B0AA-229ACB19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33D29-F149-420D-9D06-9178AECB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CA2BC-AF72-4B37-B138-4EA96983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7B0CB-6952-44A5-BC39-1B1E96DE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4E1D9-1794-4620-B21A-04BE3706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BBADE-4BD9-4228-8E4E-C788C49A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E232A-B366-43BD-BA7D-5489542A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DDFC-66EC-4FFB-95C5-F4F63A69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D3747-A514-4516-8AFC-AB90AE5A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15D31-390B-4EC0-983E-E1FB33BF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B24D1-29C2-49A4-846C-B915263F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26C02-422B-4190-9876-AC2BBE01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E9795-BAE2-4855-9083-AD397195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98D6D-94FB-4FB2-9A54-3F866405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F4D97-EC57-4352-95CD-BE216D7F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FE8C8-D091-4F4A-872D-42266424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9E7B7-919B-4B35-81E2-F9EA6080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B5F1A-DD54-43D1-B990-F2FE02D3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4A6-0C5D-4EDB-A608-78CC2A22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634D7-6132-4BD9-BB22-1700162C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37B16-C3A8-45AA-850D-6939441A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D5465-04E3-4993-A78A-113611C7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CE493-D892-433B-AC7D-46990EAB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8B994-1247-4244-A7C5-B548DEB9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C8928-C597-42B3-8095-9B80A6F8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10C75-A458-445C-A724-D91CE083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2FD1E-0107-4D71-B7F5-F0A901C7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2B6E6-A584-4F9A-AAA7-0A696977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1C8FE-44CB-45EA-907A-DFBFD39F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CC14-6C64-4E4F-9E66-A62F4BF340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525C-C1A5-495E-BCEC-5CB9178189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A7A6-E414-42E2-8129-9DDDD966D0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581B-B1D4-49DD-BDA5-3BEC2DC60E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5B31-F5B7-4A0D-AF66-8E8CC6510B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28BC-6AD6-4088-9C36-76C7289677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BFE0-8581-489A-8604-C8446F2188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5D65-4BEC-49B2-B935-AA05F4A5D0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A05C-66A3-4EC1-84CE-EBADD8D1FE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FF4D-E511-4116-8ED5-646668E44F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1916-08D9-4EDB-BB8D-4A9FA47AB2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5438-845D-4180-88F9-3268A95BBE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3406-E3C8-4587-BD36-051C56911A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DAC6-77EB-4CB5-8EC9-0F50DCAA6B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3A08-5976-429D-9865-3DD8410206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F8A7-13A8-466A-A78D-6B131355DB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BA3D-3CAD-4709-A64A-ABDEFC6C24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EFFC-BCED-417A-B4F6-59D06654E9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E893-42BD-4BD0-B6E7-E1A9849518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CCED-53B3-4D8B-9B1B-6A795EA0A5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AA5A-427E-4119-9B81-785B40DC86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82A5-0BAF-41A9-B3B8-021525909E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256B-0325-4F5C-A710-BBF41D25B8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7017-EEBD-4F47-8F3C-45697FFC4D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1BDA-6B52-4F82-A0AC-3779430A39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36AD-C857-46A2-9168-65EFF5F8C4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E135-2AF3-40A7-9471-02BBEEC6D5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6642-33E1-4FF6-AFD5-2CE83B5890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B54F-1547-4420-85B0-22D4041A1C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D048-EA35-48BF-9DC0-1DD25DE3AC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9526-A738-4B45-A5C6-94180CE9A0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BBD2-EAA8-4CF7-9F3A-F4F099FC93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1679-8CD5-4ED6-9AEE-DA54D233CF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6476-631E-4F38-ADCD-B2BE4C865B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ECF8-83A5-45BF-BE20-67CCC3772B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4B53-719A-4AA8-9DB6-6064127892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1FEB-667A-4735-B5F6-1777CFD82A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03DA-8B03-431C-AB3A-57BB7A3967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87B2-4F00-4AED-B70D-12CBE75223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9960-AB4B-4FB5-B426-0B6079A108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43040" y="3205080"/>
            <a:ext cx="4057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42920" y="938160"/>
            <a:ext cx="8858160" cy="49816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859280" y="200808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484360" y="234936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724360" y="2349360"/>
            <a:ext cx="86364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140360" y="2665440"/>
            <a:ext cx="71892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916360" y="2997360"/>
            <a:ext cx="71892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084720" y="2997360"/>
            <a:ext cx="71928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116000" y="3322800"/>
            <a:ext cx="71928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4284720" y="3332160"/>
            <a:ext cx="71892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971640" y="4302000"/>
            <a:ext cx="71892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938160" y="515772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3860640" y="5157720"/>
            <a:ext cx="28764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6896160" y="515772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952560" y="56088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4294080" y="56088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7470720" y="5599080"/>
            <a:ext cx="2872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9410" descr=""/>
          <p:cNvPicPr/>
          <p:nvPr/>
        </p:nvPicPr>
        <p:blipFill>
          <a:blip r:embed="rId1"/>
          <a:stretch/>
        </p:blipFill>
        <p:spPr>
          <a:xfrm>
            <a:off x="552600" y="1324080"/>
            <a:ext cx="8038800" cy="4209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2987640" y="4610160"/>
            <a:ext cx="79236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7093080" y="4600440"/>
            <a:ext cx="122400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8373" descr=""/>
          <p:cNvPicPr/>
          <p:nvPr/>
        </p:nvPicPr>
        <p:blipFill>
          <a:blip r:embed="rId1"/>
          <a:stretch/>
        </p:blipFill>
        <p:spPr>
          <a:xfrm>
            <a:off x="338040" y="2066760"/>
            <a:ext cx="8467920" cy="2724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6165720" y="356400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6156360" y="406728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5724360" y="433080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6823080" y="4321080"/>
            <a:ext cx="57636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11:11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